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6576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2468844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71600" y="19638720"/>
            <a:ext cx="2468844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0220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1963872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4022000" y="1963872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18920" y="855864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66240" y="855864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71600" y="1963872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718920" y="1963872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8066240" y="19638720"/>
            <a:ext cx="794952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71600" y="8558640"/>
            <a:ext cx="2468844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2468844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120477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4022000" y="8558640"/>
            <a:ext cx="120477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71600" y="1459080"/>
            <a:ext cx="24688440" cy="283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22000" y="8558640"/>
            <a:ext cx="120477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71600" y="1963872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12047760" cy="212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40220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22000" y="1963872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459080"/>
            <a:ext cx="24688440" cy="61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260880"/>
                <a:tab algn="l" pos="6521400"/>
                <a:tab algn="l" pos="9782280"/>
              </a:tabLst>
            </a:pPr>
            <a:endParaRPr b="0" lang="en-US" sz="1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4022000" y="8558640"/>
            <a:ext cx="1204776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19638720"/>
            <a:ext cx="24688440" cy="1011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3260880"/>
                <a:tab algn="l" pos="6521400"/>
                <a:tab algn="l" pos="9782280"/>
              </a:tabLst>
            </a:pP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9" descr="C:\Users\mschuemi\Desktop\OHDSI\OHDSI logo with text - vertical - colored.png"/>
          <p:cNvPicPr/>
          <p:nvPr/>
        </p:nvPicPr>
        <p:blipFill>
          <a:blip r:embed="rId1"/>
          <a:stretch/>
        </p:blipFill>
        <p:spPr>
          <a:xfrm>
            <a:off x="76320" y="-125280"/>
            <a:ext cx="3576600" cy="4302000"/>
          </a:xfrm>
          <a:prstGeom prst="rect">
            <a:avLst/>
          </a:prstGeom>
          <a:ln w="0">
            <a:noFill/>
          </a:ln>
        </p:spPr>
      </p:pic>
      <p:sp>
        <p:nvSpPr>
          <p:cNvPr id="37" name="TextBox 1"/>
          <p:cNvSpPr/>
          <p:nvPr/>
        </p:nvSpPr>
        <p:spPr>
          <a:xfrm>
            <a:off x="3267000" y="0"/>
            <a:ext cx="148194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1425a"/>
                </a:solidFill>
                <a:latin typeface="Calibri"/>
              </a:rPr>
              <a:t>Title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2"/>
          <p:cNvSpPr/>
          <p:nvPr/>
        </p:nvSpPr>
        <p:spPr>
          <a:xfrm>
            <a:off x="3355920" y="2770200"/>
            <a:ext cx="151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</a:rPr>
              <a:t>Authors and affil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9"/>
          <p:cNvSpPr/>
          <p:nvPr/>
        </p:nvSpPr>
        <p:spPr>
          <a:xfrm>
            <a:off x="492120" y="6897600"/>
            <a:ext cx="131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45"/>
          <p:cNvSpPr/>
          <p:nvPr/>
        </p:nvSpPr>
        <p:spPr>
          <a:xfrm>
            <a:off x="15049440" y="6735600"/>
            <a:ext cx="121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1"/>
          <p:cNvSpPr/>
          <p:nvPr/>
        </p:nvSpPr>
        <p:spPr>
          <a:xfrm>
            <a:off x="15125760" y="19089720"/>
            <a:ext cx="121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0"/>
          <p:cNvSpPr/>
          <p:nvPr/>
        </p:nvSpPr>
        <p:spPr>
          <a:xfrm>
            <a:off x="0" y="35875800"/>
            <a:ext cx="175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Arial"/>
              </a:rPr>
              <a:t>Contact:  contact@ohdsi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1"/>
          <p:cNvSpPr/>
          <p:nvPr/>
        </p:nvSpPr>
        <p:spPr>
          <a:xfrm>
            <a:off x="231840" y="18930960"/>
            <a:ext cx="135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425a"/>
                </a:solidFill>
                <a:latin typeface="Calibri"/>
                <a:ea typeface="Arial Unicode MS"/>
              </a:rPr>
              <a:t>Put 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5082920" y="17506800"/>
            <a:ext cx="11664720" cy="97812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492120" y="5535720"/>
            <a:ext cx="12982680" cy="97776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15108120" y="5540400"/>
            <a:ext cx="11665080" cy="97308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336600" y="17506800"/>
            <a:ext cx="12982680" cy="978120"/>
          </a:xfrm>
          <a:prstGeom prst="rect">
            <a:avLst/>
          </a:prstGeom>
          <a:gradFill rotWithShape="0">
            <a:gsLst>
              <a:gs pos="0">
                <a:srgbClr val="20425a"/>
              </a:gs>
              <a:gs pos="100000">
                <a:srgbClr val="fccb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7:29:38Z</dcterms:created>
  <dc:creator>user</dc:creator>
  <dc:description/>
  <dc:language>en-US</dc:language>
  <cp:lastModifiedBy>Ryan, Patrick [JRDUS]</cp:lastModifiedBy>
  <dcterms:modified xsi:type="dcterms:W3CDTF">2015-08-28T19:41:42Z</dcterms:modified>
  <cp:revision>184</cp:revision>
  <dc:subject/>
  <dc:title>Slide 1</dc:title>
</cp:coreProperties>
</file>